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4CA-D49B-4611-97D7-93E352EB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84D-4EBA-4B82-8AFD-10776F3A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413-E63A-4EEE-9DF3-A63E9237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55E-8C06-4A73-841B-AC0B1BEC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C6F-AE6B-47C6-90EE-EAAF5EBA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BD1-3942-4455-8E23-7D2ADA2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7C4-7E1E-4C90-B4F5-AAC6D02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9C4-28BA-4FE0-87B9-599F5C1F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C51-9CDD-4910-BD80-0D11B54C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991-441A-4848-A18A-ECB6C07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46A-76B1-431A-AA43-041F446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786-464F-47E9-B86C-210687B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EAB-1A5A-4161-A24F-9729EAC0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hrenheit 4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0372" t="0" r="0" b="0"/>
          <a:stretch/>
        </p:blipFill>
        <p:spPr>
          <a:xfrm>
            <a:off x="685800" y="4343400"/>
            <a:ext cx="32958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2205000" cy="373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26072" t="16273" r="6912" b="15748"/>
          <a:stretch/>
        </p:blipFill>
        <p:spPr>
          <a:xfrm>
            <a:off x="4038480" y="40384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1720" y="914400"/>
            <a:ext cx="180324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17659" t="22222" r="0" b="0"/>
          <a:stretch/>
        </p:blipFill>
        <p:spPr>
          <a:xfrm>
            <a:off x="7467480" y="3657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rcRect l="26265" t="15739" r="29299" b="0"/>
          <a:stretch/>
        </p:blipFill>
        <p:spPr>
          <a:xfrm>
            <a:off x="5410080" y="2209680"/>
            <a:ext cx="121932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>
            <a:lum bright="-24000"/>
          </a:blip>
          <a:stretch/>
        </p:blipFill>
        <p:spPr>
          <a:xfrm>
            <a:off x="6019920" y="40384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133200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5080" y="12952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5960" y="1484280"/>
            <a:ext cx="35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 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15:28Z</dcterms:created>
  <dc:creator>Cecil Smith</dc:creator>
  <dc:description/>
  <dc:language>en-US</dc:language>
  <cp:lastModifiedBy>Cecil Smith</cp:lastModifiedBy>
  <dcterms:modified xsi:type="dcterms:W3CDTF">2008-05-01T20:34:32Z</dcterms:modified>
  <cp:revision>3</cp:revision>
  <dc:subject/>
  <dc:title>Slide 1</dc:title>
</cp:coreProperties>
</file>